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70CC-DF7D-452D-B4D9-4C3A8A5A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4703-DEA9-424B-84EB-A72FF7C8A3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84FA-94F0-42D1-A83E-AA7DCD96D7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926D-BEE2-42BC-9F97-AE806FEFA43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8F38-7EBD-41FC-9DD6-C1F3CF19A83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7F6-3975-4F81-B0FE-E21CDE4ABCE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D3AA-DD26-436F-94D2-F65EFBE59B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D96-E1C9-4F25-AEF9-ACAC87C36F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CF1-B26A-4BC7-A673-BA75CD5A396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F461-30F0-4B44-8376-BAAE589AED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8027-8699-4BA7-8495-3BAB0B00BFA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0ED-13D4-4931-9826-0A289C9B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3E3-3ED7-429C-BDE2-A12619E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521-B523-4505-BF67-732B6535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1F5-F3DE-4AFF-AD71-F9C47F1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2049-D63A-4BBA-A505-D1B9D07B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4DFE-D188-45A0-AE80-2EA171D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679-4A2A-48C5-9EF8-D985D99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5392-C2D3-429F-B34A-577F7397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114-41EB-4C59-88C5-17EFAF67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9FD-749D-45F6-8A7E-B5BDCEE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016-7331-46E7-8831-3009CD4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D95-BB25-42C7-A4D4-3A53BC1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ACE-D164-496C-93BC-47C8BA2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9891-5A13-4AFD-AD74-1A45415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F55F-A058-4D22-AEBC-E63E3DA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A4E-E708-44F3-BE65-19BD67B2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03DC-4167-4AD9-BE65-C394D286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C43-77EE-492C-854E-1ADC21C1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1E6-EA2E-4023-9338-05648BA5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9C8-BE8D-41B3-81B6-78867C1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F7D-8D92-437A-BDAA-B1069BB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E95-B15E-487A-9A79-9730DB7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80E-F43E-4EF9-9AE1-7A3B92B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5EF-51E9-47A8-8A3A-8DEBCF5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CD2-B374-437F-A0C8-B45A0B0B15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F96B-D40C-4A80-9BF2-022B66FD121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rmons of Raw Emotion: The Great Awaken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sons for The Great Awake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rmons of Raw Emo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Out Comes of The Awake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6e"/>
                </a:solidFill>
                <a:latin typeface="Abadi MT Condensed Extra Bold"/>
                <a:ea typeface="Abadi MT Condensed Extra Bold"/>
              </a:rPr>
              <a:t>The American Colonies were the most literate society in the world (90% of males in NE, 40% of femal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6e"/>
                </a:solidFill>
                <a:latin typeface="Abadi MT Condensed Extra Bold"/>
                <a:ea typeface="Abadi MT Condensed Extra Bold"/>
              </a:rPr>
              <a:t>Literacy throughout varied from 35-50%.  England averaged about 30%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6e"/>
                </a:solidFill>
                <a:latin typeface="Abadi MT Condensed Extra Bold"/>
                <a:ea typeface="Abadi MT Condensed Extra Bold"/>
              </a:rPr>
              <a:t>Despite widespread literacy books were fairly rare; people were moved by persons who had the power of the spoken w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Picture 7" descr="0880889187"/>
          <p:cNvPicPr/>
          <p:nvPr/>
        </p:nvPicPr>
        <p:blipFill>
          <a:blip r:embed="rId1"/>
          <a:stretch/>
        </p:blipFill>
        <p:spPr>
          <a:xfrm>
            <a:off x="4800600" y="1600200"/>
            <a:ext cx="4152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Enlighte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are born with natural r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vernment has an obligation to protect those natural r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ings have no right to govern people, people empower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648320" y="1598760"/>
            <a:ext cx="4033800" cy="449712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48160" y="1676160"/>
            <a:ext cx="2514600" cy="1143000"/>
          </a:xfrm>
          <a:prstGeom prst="rect">
            <a:avLst/>
          </a:prstGeom>
          <a:solidFill>
            <a:srgbClr val="4d4d73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Promp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5520" y="3429000"/>
            <a:ext cx="3048120" cy="266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does this picture represent the Great Awakening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7" descr="http://prodeoetpatria.files.wordpress.com/2010/08/whitefield.jpg"/>
          <p:cNvPicPr/>
          <p:nvPr/>
        </p:nvPicPr>
        <p:blipFill>
          <a:blip r:embed="rId1"/>
          <a:stretch/>
        </p:blipFill>
        <p:spPr>
          <a:xfrm>
            <a:off x="-22860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Great Awakening 1730-1740 gave colonists a shared national religious experien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rcRect l="4901" t="3700" r="5884" b="5559"/>
          <a:stretch/>
        </p:blipFill>
        <p:spPr>
          <a:xfrm>
            <a:off x="858960" y="1763640"/>
            <a:ext cx="7338960" cy="408168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asons for The Great Awak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felt that religion was dry, dull and dista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achers felt that people needed to be concerned with inner emotions as opposed to outward religious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in New England can read and interrupt the Bible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rcRect l="4901" t="3700" r="5884" b="5559"/>
          <a:stretch/>
        </p:blipFill>
        <p:spPr>
          <a:xfrm>
            <a:off x="5295960" y="1849320"/>
            <a:ext cx="3386160" cy="383076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eorge Whitefie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28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ritan Minster who used raw emotional sermons to reach all classes of coloni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ached that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 works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ly lives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would bring you salv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ced to give sermons in open areas (revival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648320" y="1598760"/>
            <a:ext cx="40338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Great Awak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rth of deep religious convictions in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w churches built to accommodate new mem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s founded found to train new minis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3800" cy="4038480"/>
          </a:xfrm>
          <a:prstGeom prst="rect">
            <a:avLst/>
          </a:prstGeom>
          <a:ln w="284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Great Awak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couraged ideas of equality and right to challenge author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rth of charity and charitable organiz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648320" y="1598760"/>
            <a:ext cx="4033800" cy="449712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he Enlighte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1360" y="1676160"/>
            <a:ext cx="4421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ment in the 1700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 that rejected traditional ways of life and looked for a more rational and scientific way to explain the world we live 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was an emphasis on the sciences and reason to explain thi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133960" y="1598760"/>
            <a:ext cx="3548160" cy="4497120"/>
          </a:xfrm>
          <a:prstGeom prst="rect">
            <a:avLst/>
          </a:prstGeom>
          <a:ln w="381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nlightenment Argu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nerally we are good and it our environment that influences 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use of science and reason could answer life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 myste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ience and reason could also answer man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 questions concerning government and himsel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16010" t="5556" r="4003" b="3704"/>
          <a:stretch/>
        </p:blipFill>
        <p:spPr>
          <a:xfrm>
            <a:off x="5257800" y="2209680"/>
            <a:ext cx="3276720" cy="3962520"/>
          </a:xfrm>
          <a:prstGeom prst="rect">
            <a:avLst/>
          </a:prstGeom>
          <a:ln w="381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Enlighte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eat surge of literacy in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wspapers and book publications increas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hools are synonymous with new towns and vill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ism, God is the great clock ma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3800" cy="4114800"/>
          </a:xfrm>
          <a:prstGeom prst="rect">
            <a:avLst/>
          </a:prstGeom>
          <a:ln w="381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0:15:03Z</dcterms:created>
  <dc:creator>core curr</dc:creator>
  <dc:description/>
  <dc:language>en-US</dc:language>
  <cp:lastModifiedBy>Emily Miller</cp:lastModifiedBy>
  <dcterms:modified xsi:type="dcterms:W3CDTF">2014-09-10T00:51:22Z</dcterms:modified>
  <cp:revision>7</cp:revision>
  <dc:subject/>
  <dc:title>The Great Awakening gave colonists a shared national experience</dc:title>
</cp:coreProperties>
</file>